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5.png" ContentType="image/pn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C2D-C0FF-4454-9F6D-77B761B3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214-ED6A-494A-8456-D07F8B1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384-523F-4EA3-BE99-1BD7CAAF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D77-6DA9-4235-B4FA-91512199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DBD-460D-45FD-9960-53AD4B9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457-1D2E-4B5C-8F44-8AF8AD4D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4C6-604A-474B-8F89-AA8CD0C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7FC-EF67-4E30-A099-46E7A30F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655-B02E-48D4-B5ED-66EF4E87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436-B11F-4B79-A412-D4C8B2F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9FC-B6E5-4BED-93FD-C21724EB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696-4A68-4B44-A40F-2D72525E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0E77-D0D7-4D94-9A51-4AC86B134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ineLintGerm"/>
              </a:rPr>
              <a:t>Yok kita belajar tentang</a:t>
            </a:r>
            <a:br>
              <a:rPr sz="6000"/>
            </a:br>
            <a:r>
              <a:rPr b="1" lang="en-US" sz="8000" spc="-1" strike="noStrike">
                <a:solidFill>
                  <a:srgbClr val="000000"/>
                </a:solidFill>
                <a:latin typeface="PineLintGerm"/>
              </a:rPr>
              <a:t>PANT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133720" y="3505320"/>
            <a:ext cx="4800600" cy="138168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enceram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ikgu Samsiah Binte Moham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33720" y="5014800"/>
            <a:ext cx="4800600" cy="1015920"/>
          </a:xfrm>
          <a:prstGeom prst="rect">
            <a:avLst/>
          </a:prstGeom>
          <a:solidFill>
            <a:srgbClr val="cc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wan Kuliah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ktab Rendah Tamp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6781680" y="228600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Picture 9" descr="silygrd1"/>
          <p:cNvPicPr/>
          <p:nvPr/>
        </p:nvPicPr>
        <p:blipFill>
          <a:blip r:embed="rId2"/>
          <a:stretch/>
        </p:blipFill>
        <p:spPr>
          <a:xfrm>
            <a:off x="7292880" y="3581280"/>
            <a:ext cx="1622520" cy="26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7" name="Picture 10" descr="silygrd2"/>
          <p:cNvPicPr/>
          <p:nvPr/>
        </p:nvPicPr>
        <p:blipFill>
          <a:blip r:embed="rId3"/>
          <a:stretch/>
        </p:blipFill>
        <p:spPr>
          <a:xfrm>
            <a:off x="228600" y="3581280"/>
            <a:ext cx="1650960" cy="259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3429000"/>
            <a:ext cx="7086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kan kurau ikan keri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rtiga dengan ikan para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alau pandai berbasa-ba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 mana pergi dihormat or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095880" y="3429000"/>
            <a:ext cx="685800" cy="1981080"/>
          </a:xfrm>
          <a:custGeom>
            <a:avLst/>
            <a:gdLst>
              <a:gd name="textAreaLeft" fmla="*/ 0 w 685800"/>
              <a:gd name="textAreaRight" fmla="*/ 24768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81680" y="3886200"/>
            <a:ext cx="221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ang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57200" y="1676520"/>
            <a:ext cx="8229600" cy="12189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tun = Sesuatu yang teratur/tersu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iap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angka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,4,6,8,10 b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095880" cy="68580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u bar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4 atau 5 perka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295280" y="3429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kan kurau ikan ker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396252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838188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556272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78168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49568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 perka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 flipH="1" rot="16200000">
            <a:off x="5218560" y="1866960"/>
            <a:ext cx="762120" cy="6019560"/>
          </a:xfrm>
          <a:custGeom>
            <a:avLst/>
            <a:gdLst>
              <a:gd name="textAreaLeft" fmla="*/ -360 w 762120"/>
              <a:gd name="textAreaRight" fmla="*/ 274680 w 76212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095880" cy="60948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 – 10 suku 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371600" y="3124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kan kurau ikan ker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0481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7242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5627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8672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7816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9246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754380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83059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 flipH="1" rot="16200000">
            <a:off x="5218560" y="1866960"/>
            <a:ext cx="762120" cy="6019560"/>
          </a:xfrm>
          <a:custGeom>
            <a:avLst/>
            <a:gdLst>
              <a:gd name="textAreaLeft" fmla="*/ -360 w 762120"/>
              <a:gd name="textAreaRight" fmla="*/ 274680 w 76212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49568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 suku 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2952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97180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3" name="Picture 8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000" spc="-1" strike="noStrike">
                <a:solidFill>
                  <a:srgbClr val="000000"/>
                </a:solidFill>
                <a:latin typeface="PineLintGerm"/>
              </a:rPr>
              <a:t>MARI KITA KIRA SUKU K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dah dapat batang gaharu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       </a:t>
            </a: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Batang cendana diketepikan ;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Sudah dapat teman yang baru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Kawan lama jangan lupakan.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9343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934320" y="1905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0" y="25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8580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000" spc="-1" strike="noStrike">
                <a:solidFill>
                  <a:srgbClr val="000000"/>
                </a:solidFill>
                <a:latin typeface="PineLintGerm"/>
              </a:rPr>
              <a:t>MARI KITA KIRA SUKU K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Singapura dilanggar todak,           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Todak datang dari Jawa;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Hidup kalau beradat tidak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Ibarat patung tanpa jiwa.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00800" y="16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400800" y="329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4008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400800" y="4205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95280" y="1828800"/>
            <a:ext cx="6782040" cy="3506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21337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43600" y="22860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6019920" y="3581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477120" y="3733920"/>
            <a:ext cx="22096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324480" y="2362320"/>
            <a:ext cx="2590920" cy="5205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13716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30481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4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710280" y="3122280"/>
            <a:ext cx="55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mnya ubi diam beri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mnya besi lelama berkar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5715000" y="228600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019920" y="2286000"/>
            <a:ext cx="2209680" cy="6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400800" y="3429000"/>
            <a:ext cx="15238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-228600" y="288360"/>
            <a:ext cx="967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MARI KENAL PAS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Pembayang </a:t>
            </a:r>
            <a:r>
              <a:rPr b="1" lang="sv-SE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 Maks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838080" y="2207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yam sabung jangan dika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au dikasi jadi mudar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6134040" y="335268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Apa itu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0920" y="1371600"/>
            <a:ext cx="4038480" cy="452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jen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‘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rumpamaan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au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‘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ribahasa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uisi la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ang terdiri daripada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 bar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lam setiap rang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thought-girl"/>
          <p:cNvPicPr/>
          <p:nvPr/>
        </p:nvPicPr>
        <p:blipFill>
          <a:blip r:embed="rId2"/>
          <a:stretch/>
        </p:blipFill>
        <p:spPr>
          <a:xfrm>
            <a:off x="6934320" y="4572000"/>
            <a:ext cx="1936800" cy="188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7010280" y="4952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MM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/>
          <p:cNvSpPr/>
          <p:nvPr/>
        </p:nvSpPr>
        <p:spPr>
          <a:xfrm>
            <a:off x="5638680" y="228600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943600" y="2286000"/>
            <a:ext cx="2209680" cy="6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19920" y="3276720"/>
            <a:ext cx="15238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-304920" y="304200"/>
            <a:ext cx="967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MARI KENAL PAS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P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embayang </a:t>
            </a:r>
            <a:r>
              <a:rPr b="1" lang="sv-SE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 Maks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5638680" y="327672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862560" y="2163600"/>
            <a:ext cx="46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kan parang ikan tenggi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ga dengan ikan keto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805320" y="3214800"/>
            <a:ext cx="49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au pandai membawa di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 mana pergi orang su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tun 2 kerat : KAR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57200" y="288144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Gendang gendut tali kecap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Kenyang perut senang h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172200" y="2819520"/>
            <a:ext cx="1981080" cy="457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400800" y="3429000"/>
            <a:ext cx="13716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2"/>
          <a:stretch/>
        </p:blipFill>
        <p:spPr>
          <a:xfrm>
            <a:off x="685800" y="4660920"/>
            <a:ext cx="1790640" cy="158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3"/>
          <a:stretch/>
        </p:blipFill>
        <p:spPr>
          <a:xfrm>
            <a:off x="5826240" y="4495680"/>
            <a:ext cx="278424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4"/>
          <a:stretch/>
        </p:blipFill>
        <p:spPr>
          <a:xfrm>
            <a:off x="3530520" y="4749840"/>
            <a:ext cx="15750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105160" cy="35812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ema RIMA (rhym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ulis sebagai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14400" y="1828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553080" y="2362320"/>
            <a:ext cx="1219320" cy="6858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7162920" y="3429000"/>
            <a:ext cx="1143000" cy="7621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095880" y="3048120"/>
            <a:ext cx="533520" cy="5331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4952880" y="1905120"/>
            <a:ext cx="60984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8420040" y="3048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8420040" y="1905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8420040" y="2514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8420040" y="3657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7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182880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ila langkah sauh dibong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yung terkipas, meriam terb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alau peluru tidak bertu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alau kasih tidak seb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562720" y="1828800"/>
            <a:ext cx="60948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8420040" y="3429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8420040" y="1905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8420040" y="4038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420040" y="2819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7620120" y="2438280"/>
            <a:ext cx="60948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410080" y="3124080"/>
            <a:ext cx="60984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248520" y="3733920"/>
            <a:ext cx="609480" cy="5331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13716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3124080" y="228600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08" name="Picture 4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685800" y="1921320"/>
            <a:ext cx="82296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sang lilin dibawa mud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kan makanan anak buaya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ar miskin asalkan cerdik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erlawan juga si orang kaya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DI MANA RIMANYA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Mari kita bulatkan rimany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4267080" y="2438280"/>
            <a:ext cx="60984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4419720" y="3352680"/>
            <a:ext cx="68580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5486400" y="2895480"/>
            <a:ext cx="533520" cy="5335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467480" y="32907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46748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4674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7467480" y="37479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470520" y="2314440"/>
            <a:ext cx="851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karat mata cangkul,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garang mata anjing;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berat sama dipikul,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ringan sama dijinjing.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DI MANA RIMANYA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Mari kita bulatkan rimany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038480" y="2438280"/>
            <a:ext cx="76212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962520" y="3352680"/>
            <a:ext cx="60948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876920" y="2895480"/>
            <a:ext cx="761760" cy="4572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029200" y="3733920"/>
            <a:ext cx="762120" cy="6094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80773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0773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0773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07732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Organization Chart 15"/>
          <p:cNvGrpSpPr/>
          <p:nvPr/>
        </p:nvGrpSpPr>
        <p:grpSpPr>
          <a:xfrm>
            <a:off x="762120" y="2424960"/>
            <a:ext cx="7847280" cy="2058840"/>
            <a:chOff x="762120" y="2424960"/>
            <a:chExt cx="7847280" cy="205884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549760" y="2484720"/>
              <a:ext cx="392040" cy="2121120"/>
            </a:xfrm>
            <a:prstGeom prst="bentConnector3">
              <a:avLst>
                <a:gd name="adj1" fmla="val 292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H="1" flipV="1" rot="5400000">
              <a:off x="3429720" y="2485080"/>
              <a:ext cx="392040" cy="2121120"/>
            </a:xfrm>
            <a:prstGeom prst="bentConnector3">
              <a:avLst>
                <a:gd name="adj1" fmla="val 292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7" name="_s1030"/>
            <p:cNvSpPr/>
            <p:nvPr/>
          </p:nvSpPr>
          <p:spPr>
            <a:xfrm>
              <a:off x="2882520" y="2424960"/>
              <a:ext cx="3606480" cy="9248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Pantu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1"/>
            <p:cNvSpPr/>
            <p:nvPr/>
          </p:nvSpPr>
          <p:spPr>
            <a:xfrm>
              <a:off x="762120" y="3741840"/>
              <a:ext cx="3606480" cy="741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r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2"/>
            <p:cNvSpPr/>
            <p:nvPr/>
          </p:nvSpPr>
          <p:spPr>
            <a:xfrm>
              <a:off x="5002920" y="3741840"/>
              <a:ext cx="3606480" cy="741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si kandungan/T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27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Organization Chart 14"/>
          <p:cNvGrpSpPr/>
          <p:nvPr/>
        </p:nvGrpSpPr>
        <p:grpSpPr>
          <a:xfrm>
            <a:off x="152280" y="1143000"/>
            <a:ext cx="8839080" cy="5180760"/>
            <a:chOff x="152280" y="1143000"/>
            <a:chExt cx="8839080" cy="5180760"/>
          </a:xfrm>
        </p:grpSpPr>
        <p:cxnSp>
          <p:nvCxnSpPr>
            <p:cNvPr id="243" name="_s2052"/>
            <p:cNvCxnSpPr>
              <a:stCxn id="244" idx="0"/>
              <a:endCxn id="245" idx="2"/>
            </p:cNvCxnSpPr>
            <p:nvPr/>
          </p:nvCxnSpPr>
          <p:spPr>
            <a:xfrm flipV="1" rot="16200000">
              <a:off x="5781600" y="1467720"/>
              <a:ext cx="1217160" cy="363744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3"/>
            <p:cNvCxnSpPr>
              <a:stCxn id="247" idx="0"/>
              <a:endCxn id="245" idx="2"/>
            </p:cNvCxnSpPr>
            <p:nvPr/>
          </p:nvCxnSpPr>
          <p:spPr>
            <a:xfrm flipV="1" rot="16200000">
              <a:off x="4718520" y="2530800"/>
              <a:ext cx="1217160" cy="151164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054"/>
            <p:cNvCxnSpPr>
              <a:stCxn id="249" idx="0"/>
              <a:endCxn id="245" idx="2"/>
            </p:cNvCxnSpPr>
            <p:nvPr/>
          </p:nvCxnSpPr>
          <p:spPr>
            <a:xfrm flipH="1" flipV="1" rot="5400000">
              <a:off x="3506400" y="2829600"/>
              <a:ext cx="1217160" cy="91440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2055"/>
            <p:cNvCxnSpPr>
              <a:stCxn id="251" idx="0"/>
              <a:endCxn id="245" idx="2"/>
            </p:cNvCxnSpPr>
            <p:nvPr/>
          </p:nvCxnSpPr>
          <p:spPr>
            <a:xfrm flipH="1" flipV="1" rot="5400000">
              <a:off x="2294280" y="1617480"/>
              <a:ext cx="1217160" cy="333828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5" name="_s2056"/>
            <p:cNvSpPr/>
            <p:nvPr/>
          </p:nvSpPr>
          <p:spPr>
            <a:xfrm>
              <a:off x="3834000" y="1143000"/>
              <a:ext cx="1476720" cy="1535760"/>
            </a:xfrm>
            <a:custGeom>
              <a:avLst/>
              <a:gdLst>
                <a:gd name="textAreaLeft" fmla="*/ 72000 w 1476720"/>
                <a:gd name="textAreaRight" fmla="*/ 1404720 w 1476720"/>
                <a:gd name="textAreaTop" fmla="*/ 72000 h 1535760"/>
                <a:gd name="textAreaBottom" fmla="*/ 1463760 h 1535760"/>
              </a:gdLst>
              <a:ahLst/>
              <a:rect l="textAreaLeft" t="textAreaTop" r="textAreaRight" b="textAreaBottom"/>
              <a:pathLst>
                <a:path w="21600" h="22463">
                  <a:moveTo>
                    <a:pt x="3600" y="0"/>
                  </a:moveTo>
                  <a:arcTo wR="3600" hR="3600" stAng="16200000" swAng="-5400000"/>
                  <a:lnTo>
                    <a:pt x="0" y="18863"/>
                  </a:lnTo>
                  <a:arcTo wR="3600" hR="3600" stAng="10800000" swAng="-5400000"/>
                  <a:lnTo>
                    <a:pt x="18000" y="22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Bari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7"/>
            <p:cNvSpPr/>
            <p:nvPr/>
          </p:nvSpPr>
          <p:spPr>
            <a:xfrm>
              <a:off x="15228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Karmina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2 kera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8"/>
            <p:cNvSpPr/>
            <p:nvPr/>
          </p:nvSpPr>
          <p:spPr>
            <a:xfrm>
              <a:off x="257652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Comic Sans MS"/>
                </a:rPr>
                <a:t>Quatra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4 kera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59"/>
            <p:cNvSpPr/>
            <p:nvPr/>
          </p:nvSpPr>
          <p:spPr>
            <a:xfrm>
              <a:off x="500112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6,8,10,12 ker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60"/>
            <p:cNvSpPr/>
            <p:nvPr/>
          </p:nvSpPr>
          <p:spPr>
            <a:xfrm>
              <a:off x="7425360" y="3895200"/>
              <a:ext cx="1566000" cy="2428560"/>
            </a:xfrm>
            <a:custGeom>
              <a:avLst/>
              <a:gdLst>
                <a:gd name="textAreaLeft" fmla="*/ 76320 w 1566000"/>
                <a:gd name="textAreaRight" fmla="*/ 1489680 w 1566000"/>
                <a:gd name="textAreaTop" fmla="*/ 76320 h 2428560"/>
                <a:gd name="textAreaBottom" fmla="*/ 2352240 h 2428560"/>
              </a:gdLst>
              <a:ahLst/>
              <a:rect l="textAreaLeft" t="textAreaTop" r="textAreaRight" b="textAreaBottom"/>
              <a:pathLst>
                <a:path w="21600" h="33495">
                  <a:moveTo>
                    <a:pt x="3600" y="0"/>
                  </a:moveTo>
                  <a:arcTo wR="3600" hR="3600" stAng="16200000" swAng="-5400000"/>
                  <a:lnTo>
                    <a:pt x="0" y="29895"/>
                  </a:lnTo>
                  <a:arcTo wR="3600" hR="3600" stAng="10800000" swAng="-5400000"/>
                  <a:lnTo>
                    <a:pt x="18000" y="33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Pantun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Berka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30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8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385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38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38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38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385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8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38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8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385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38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ineLintGerm"/>
              </a:rPr>
              <a:t>Puisi L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y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rin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l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ro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ib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ANT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j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48320" y="304920"/>
            <a:ext cx="4038480" cy="1143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ineLintGerm"/>
              </a:rPr>
              <a:t>Puisi B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Pantun Berk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1 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Batu belah batu bertangkup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Kucing kurus menggaru pa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asa Allah siapa 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Kurus badan kerana tak ma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             Kucing kurus menggaru pa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             Papan digaru kayu m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rus badan kerana tak maka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Kurus kerana menahan h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             Papan digaru kayu m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             Tutuh jenalu dibunga 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rus kerana menahan ha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Makan tak lalu tidur tak 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" y="2940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" y="4495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3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29718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29718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2971800" y="17524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2971800" y="17524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32004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3200400" y="3352680"/>
            <a:ext cx="0" cy="129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3200400" y="3352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2"/>
          <p:cNvGrpSpPr/>
          <p:nvPr/>
        </p:nvGrpSpPr>
        <p:grpSpPr>
          <a:xfrm>
            <a:off x="3048120" y="3886200"/>
            <a:ext cx="380880" cy="1371600"/>
            <a:chOff x="3048120" y="3886200"/>
            <a:chExt cx="380880" cy="1371600"/>
          </a:xfrm>
        </p:grpSpPr>
        <p:sp>
          <p:nvSpPr>
            <p:cNvPr id="267" name="Line 23"/>
            <p:cNvSpPr/>
            <p:nvPr/>
          </p:nvSpPr>
          <p:spPr>
            <a:xfrm>
              <a:off x="3048120" y="5257800"/>
              <a:ext cx="3808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3048120" y="3886200"/>
              <a:ext cx="0" cy="1371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3048120" y="3886200"/>
              <a:ext cx="3049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27"/>
          <p:cNvSpPr/>
          <p:nvPr/>
        </p:nvSpPr>
        <p:spPr>
          <a:xfrm>
            <a:off x="3124080" y="36576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>
            <a:off x="3124080" y="2286000"/>
            <a:ext cx="0" cy="1371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Diagram 26"/>
          <p:cNvGrpSpPr/>
          <p:nvPr/>
        </p:nvGrpSpPr>
        <p:grpSpPr>
          <a:xfrm>
            <a:off x="726480" y="1130400"/>
            <a:ext cx="7851960" cy="5645160"/>
            <a:chOff x="726480" y="1130400"/>
            <a:chExt cx="7851960" cy="5645160"/>
          </a:xfrm>
        </p:grpSpPr>
        <p:sp>
          <p:nvSpPr>
            <p:cNvPr id="274" name="_s3076"/>
            <p:cNvSpPr/>
            <p:nvPr/>
          </p:nvSpPr>
          <p:spPr>
            <a:xfrm flipV="1">
              <a:off x="4649040" y="25398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3077"/>
            <p:cNvSpPr/>
            <p:nvPr/>
          </p:nvSpPr>
          <p:spPr>
            <a:xfrm>
              <a:off x="3668400" y="1130400"/>
              <a:ext cx="1963080" cy="14112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bah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3078"/>
            <p:cNvSpPr/>
            <p:nvPr/>
          </p:nvSpPr>
          <p:spPr>
            <a:xfrm flipV="1">
              <a:off x="5340240" y="2952720"/>
              <a:ext cx="6998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3079"/>
            <p:cNvSpPr/>
            <p:nvPr/>
          </p:nvSpPr>
          <p:spPr>
            <a:xfrm>
              <a:off x="5751000" y="1751040"/>
              <a:ext cx="1963800" cy="14112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ias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3080"/>
            <p:cNvSpPr/>
            <p:nvPr/>
          </p:nvSpPr>
          <p:spPr>
            <a:xfrm>
              <a:off x="5627160" y="3952800"/>
              <a:ext cx="98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3081"/>
            <p:cNvSpPr/>
            <p:nvPr/>
          </p:nvSpPr>
          <p:spPr>
            <a:xfrm>
              <a:off x="6614640" y="3247920"/>
              <a:ext cx="1963800" cy="14115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i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3082"/>
            <p:cNvSpPr/>
            <p:nvPr/>
          </p:nvSpPr>
          <p:spPr>
            <a:xfrm>
              <a:off x="5340240" y="4449600"/>
              <a:ext cx="6998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3083"/>
            <p:cNvSpPr/>
            <p:nvPr/>
          </p:nvSpPr>
          <p:spPr>
            <a:xfrm>
              <a:off x="5751000" y="4745160"/>
              <a:ext cx="1963800" cy="1411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at dan re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3084"/>
            <p:cNvSpPr/>
            <p:nvPr/>
          </p:nvSpPr>
          <p:spPr>
            <a:xfrm>
              <a:off x="4649040" y="4654440"/>
              <a:ext cx="0" cy="71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3085"/>
            <p:cNvSpPr/>
            <p:nvPr/>
          </p:nvSpPr>
          <p:spPr>
            <a:xfrm>
              <a:off x="3668400" y="5364000"/>
              <a:ext cx="1963080" cy="1411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ka-te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3086"/>
            <p:cNvSpPr/>
            <p:nvPr/>
          </p:nvSpPr>
          <p:spPr>
            <a:xfrm flipH="1">
              <a:off x="3257640" y="4448160"/>
              <a:ext cx="70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3087"/>
            <p:cNvSpPr/>
            <p:nvPr/>
          </p:nvSpPr>
          <p:spPr>
            <a:xfrm>
              <a:off x="1587960" y="4743360"/>
              <a:ext cx="1963080" cy="14112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en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3088"/>
            <p:cNvSpPr/>
            <p:nvPr/>
          </p:nvSpPr>
          <p:spPr>
            <a:xfrm flipH="1">
              <a:off x="2681280" y="3952800"/>
              <a:ext cx="99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3089"/>
            <p:cNvSpPr/>
            <p:nvPr/>
          </p:nvSpPr>
          <p:spPr>
            <a:xfrm>
              <a:off x="726480" y="3247920"/>
              <a:ext cx="1963080" cy="1411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g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percaya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3090"/>
            <p:cNvSpPr/>
            <p:nvPr/>
          </p:nvSpPr>
          <p:spPr>
            <a:xfrm flipH="1" flipV="1">
              <a:off x="3257640" y="2952720"/>
              <a:ext cx="70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3091"/>
            <p:cNvSpPr/>
            <p:nvPr/>
          </p:nvSpPr>
          <p:spPr>
            <a:xfrm>
              <a:off x="1587960" y="1752480"/>
              <a:ext cx="1963080" cy="1411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ndidik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3092"/>
            <p:cNvSpPr/>
            <p:nvPr/>
          </p:nvSpPr>
          <p:spPr>
            <a:xfrm>
              <a:off x="3668400" y="3249720"/>
              <a:ext cx="1963080" cy="14112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ema/I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71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2819520" y="1676520"/>
            <a:ext cx="3352680" cy="11912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ntun pusa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752480" y="3429000"/>
            <a:ext cx="5715000" cy="1312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dak boleh diubahs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267080" y="25146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287964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57200" y="1905120"/>
            <a:ext cx="8077320" cy="29286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am jawa pokok di hut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bawa orang tanam ke des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agi nyawa dikandung bada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daklah hamba berputus asa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Pantun Pus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762120" y="1676520"/>
            <a:ext cx="7696080" cy="419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alam mencipta pant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entuk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JEN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nt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AKSU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embaya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a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ENA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Unsur alam &amp; keinda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ilih perkataan/frasa yang menarik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j04382030000[1]"/>
          <p:cNvPicPr/>
          <p:nvPr/>
        </p:nvPicPr>
        <p:blipFill>
          <a:blip r:embed="rId2"/>
          <a:stretch/>
        </p:blipFill>
        <p:spPr>
          <a:xfrm>
            <a:off x="6705720" y="1066680"/>
            <a:ext cx="243828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PineLintGerm"/>
              </a:rPr>
              <a:t>Pelestarian Pant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124080" y="685800"/>
            <a:ext cx="2895840" cy="855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tanding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rbalas pant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019920" y="5257800"/>
            <a:ext cx="2590560" cy="855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khemahan pant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209680" y="5486400"/>
            <a:ext cx="3048120" cy="474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ntun dalam lag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9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Fungsi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66520" y="16462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u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ahan peras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PineLintGerm"/>
              </a:rPr>
              <a:t>TAMA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ineLintGerm"/>
              </a:rPr>
              <a:t>Terima kasi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0" y="3429000"/>
            <a:ext cx="190512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7238880" y="3429000"/>
            <a:ext cx="190512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2666880" y="1785960"/>
            <a:ext cx="6019920" cy="6066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kurik itu kund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merah itu sag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baik itu bud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indah itu bahasa.</a:t>
            </a:r>
            <a:r>
              <a:rPr b="1" lang="en-SG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k milik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asli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ang Mela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dak dipengaruhi mana-mana jenis puisi bangsa 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Apa itu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momgoose"/>
          <p:cNvPicPr/>
          <p:nvPr/>
        </p:nvPicPr>
        <p:blipFill>
          <a:blip r:embed="rId2"/>
          <a:stretch/>
        </p:blipFill>
        <p:spPr>
          <a:xfrm>
            <a:off x="6705720" y="2971800"/>
            <a:ext cx="169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Syair </a:t>
            </a: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&amp;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isi bangsa Arab &amp; Pa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erkenalkan kepada orang Melayu ketika Islam datang ke Tanah Mela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525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nt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isi orang Melay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dak dipengaruhi mana-mana pi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kan belanak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jadikan hadiah untuk pasangan yang baru mendapat zu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533520" y="228600"/>
            <a:ext cx="8229600" cy="1143000"/>
            <a:chOff x="533520" y="228600"/>
            <a:chExt cx="8229600" cy="1143000"/>
          </a:xfrm>
        </p:grpSpPr>
        <p:sp>
          <p:nvSpPr>
            <p:cNvPr id="69" name="Rectangle 8"/>
            <p:cNvSpPr/>
            <p:nvPr/>
          </p:nvSpPr>
          <p:spPr>
            <a:xfrm>
              <a:off x="533520" y="2286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PineLintGerm"/>
                </a:rPr>
                <a:t>Asal  Usul Pantu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3200400" y="9442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2" descr="MCj02324250000[1]"/>
          <p:cNvPicPr/>
          <p:nvPr/>
        </p:nvPicPr>
        <p:blipFill>
          <a:blip r:embed="rId2"/>
          <a:stretch/>
        </p:blipFill>
        <p:spPr>
          <a:xfrm>
            <a:off x="228600" y="4876920"/>
            <a:ext cx="1220760" cy="161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4876920" y="3124080"/>
            <a:ext cx="4267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un ribu-rib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gunakan untuk memberitahu bahawa pasangan itu akan dapat banyak wang/h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762120" y="1981080"/>
            <a:ext cx="78483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jadi lambang/ simbol penguc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523880" y="5486400"/>
            <a:ext cx="3733920" cy="95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a: </a:t>
            </a:r>
            <a:br>
              <a:rPr sz="1600"/>
            </a:b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jenis ikan la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jenis tumbuhan, se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ineLintGerm"/>
              </a:rPr>
              <a:t>Penggu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62120" y="2077920"/>
            <a:ext cx="3733560" cy="365688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bualan h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suka r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teka-teki &amp; lirik la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lis perkahw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ulakan &amp; menutup majl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62120" y="1447920"/>
            <a:ext cx="3733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hu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800600" y="1447920"/>
            <a:ext cx="327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kara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800600" y="2057400"/>
            <a:ext cx="3276720" cy="37818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dak l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ang l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ya segeli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ang didengar (kecuali dalam d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urang diamalk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ineLintGerm"/>
              </a:rPr>
              <a:t>Penggu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2590560"/>
            <a:ext cx="3657600" cy="327636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nek moya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 Hur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ara l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reading-teacher"/>
          <p:cNvPicPr/>
          <p:nvPr/>
        </p:nvPicPr>
        <p:blipFill>
          <a:blip r:embed="rId2"/>
          <a:stretch/>
        </p:blipFill>
        <p:spPr>
          <a:xfrm>
            <a:off x="762120" y="1752480"/>
            <a:ext cx="315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Rectangle 7"/>
          <p:cNvSpPr/>
          <p:nvPr/>
        </p:nvSpPr>
        <p:spPr>
          <a:xfrm>
            <a:off x="4495680" y="1676520"/>
            <a:ext cx="3733920" cy="6858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gapa Lis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Rentak </a:t>
            </a:r>
            <a:r>
              <a:rPr b="1" lang="en-US" sz="3600" spc="-1" strike="noStrike">
                <a:solidFill>
                  <a:srgbClr val="000000"/>
                </a:solidFill>
                <a:latin typeface="PineLintGerm"/>
              </a:rPr>
              <a:t>da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 Irama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ideo orang melafazkan pantun) – dondang sayang baba nyo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6:25:46Z</dcterms:created>
  <dc:creator>Izzati Jasni</dc:creator>
  <dc:description/>
  <dc:language>en-US</dc:language>
  <cp:lastModifiedBy>Noryati</cp:lastModifiedBy>
  <dcterms:modified xsi:type="dcterms:W3CDTF">2009-02-24T14:16:59Z</dcterms:modified>
  <cp:revision>100</cp:revision>
  <dc:subject/>
  <dc:title>Slide 1</dc:title>
</cp:coreProperties>
</file>